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3345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716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412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0020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716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412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6680" y="795240"/>
            <a:ext cx="84024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亚光内容(白)2"/>
          <p:cNvPicPr/>
          <p:nvPr/>
        </p:nvPicPr>
        <p:blipFill>
          <a:blip r:embed="rId3"/>
          <a:stretch/>
        </p:blipFill>
        <p:spPr>
          <a:xfrm>
            <a:off x="0" y="0"/>
            <a:ext cx="9334440" cy="723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7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0"/>
            <a:ext cx="9334440" cy="884160"/>
          </a:xfrm>
          <a:prstGeom prst="rect">
            <a:avLst/>
          </a:prstGeom>
          <a:gradFill rotWithShape="0">
            <a:gsLst>
              <a:gs pos="0">
                <a:srgbClr val="bbe0e3">
                  <a:alpha val="60000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57103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75480"/>
            <a:ext cx="9334440" cy="563400"/>
          </a:xfrm>
          <a:prstGeom prst="rect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0" y="642960"/>
            <a:ext cx="5056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62737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288040" y="6586560"/>
            <a:ext cx="4046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0" y="2179800"/>
            <a:ext cx="93344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十五章 免疫性疾病患儿的护理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219400" y="4267080"/>
            <a:ext cx="511164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内蒙古医科大学附属医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刘国强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9"/>
          <p:cNvSpPr/>
          <p:nvPr/>
        </p:nvSpPr>
        <p:spPr>
          <a:xfrm>
            <a:off x="0" y="301932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0"/>
          <p:cNvSpPr/>
          <p:nvPr/>
        </p:nvSpPr>
        <p:spPr>
          <a:xfrm>
            <a:off x="0" y="304488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9760" y="1415520"/>
            <a:ext cx="840276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治疗要点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19040" y="2395080"/>
            <a:ext cx="8400960" cy="406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般治疗：休息，加强营养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清除链球菌感染：大剂量青霉素静点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风湿热治疗：无心脏炎时可用水杨酸制剂。心脏炎时早期用糖皮质激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他：强心、利尿药、镇静剂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6360" y="47520"/>
            <a:ext cx="84042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Garamond"/>
                <a:ea typeface="黑体"/>
              </a:rPr>
              <a:t>一、风湿热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4280" y="1415520"/>
            <a:ext cx="840132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护理诊断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9080" y="2630520"/>
            <a:ext cx="8183520" cy="3317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输出量减少  与心脏受损有关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疼痛  与关节受累有关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焦虑  与发生心脏损害有关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体温过高  与感染病原体毒素有关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潜在并发症：药物副作用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6360" y="47520"/>
            <a:ext cx="84042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Garamond"/>
                <a:ea typeface="黑体"/>
              </a:rPr>
              <a:t>一、风湿热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4320" y="1111320"/>
            <a:ext cx="840096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护理措施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19040" y="1819080"/>
            <a:ext cx="8856720" cy="489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心脏炎的护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观察病情   注意患儿面色、呼吸、心音、心律和心率的变化，观察有无心力衰竭表现，及时处理并详细记录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限制活动  卧床休息的期限取决于心脏受累程度和心功能状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饮食管理  给予易消化、高蛋白、高维生素食物，少量多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按医嘱抗风湿治疗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6360" y="47520"/>
            <a:ext cx="84042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Garamond"/>
                <a:ea typeface="黑体"/>
              </a:rPr>
              <a:t>一、风湿热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4280" y="1110960"/>
            <a:ext cx="840132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护理措施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79040" y="2395440"/>
            <a:ext cx="8153640" cy="4608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减轻关节疼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疼痛的关节置于功能位，保持体位舒适，避免患肢受压，移动肢体时动作轻柔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急性期过后也可局部热敷止痛。注意患肢保暖，做好皮肤护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6360" y="47520"/>
            <a:ext cx="84042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Garamond"/>
                <a:ea typeface="黑体"/>
              </a:rPr>
              <a:t>一、风湿热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4280" y="1110960"/>
            <a:ext cx="840132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护理措施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5040" y="2323800"/>
            <a:ext cx="8153280" cy="4608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做好基础护理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密切观察体温变化，注意热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保持室内空气新鲜，温湿度适宜，衣被尿布保持清洁干燥，并经常更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6360" y="47520"/>
            <a:ext cx="84042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Garamond"/>
                <a:ea typeface="黑体"/>
              </a:rPr>
              <a:t>一、风湿热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4280" y="1035000"/>
            <a:ext cx="840132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护理措施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2680" y="1963800"/>
            <a:ext cx="81838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用药护理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肌炎时用洋地黄期间应注意观察有无恶心、呕吐、心律不齐、心动过缓等副作用；阿司匹林可引起胃肠反应、肝功能损害和出血；泼尼松可引起满月脸、肥胖、消化道溃疡、肾上腺皮质功能不全、精神症状、血压增高、电解质紊乱、抑制免疫等，应密切观察，避免交叉感染和骨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6360" y="47520"/>
            <a:ext cx="84042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Garamond"/>
                <a:ea typeface="黑体"/>
              </a:rPr>
              <a:t>一、风湿热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4280" y="1035000"/>
            <a:ext cx="840132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护理措施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2680" y="1963440"/>
            <a:ext cx="8183880" cy="4249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心理护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有效的沟通方式，减少患儿的住院压力，以取得其对治疗护理的配合，增强其战胜疾病的信心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健康教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患儿和家长介绍有关疾病的知识和护理要点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指导家长合理安排患儿的日常生活，增强体质但避免剧烈的活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定期门诊复查，强调预防复发的重要性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预防首选长效青霉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6360" y="47520"/>
            <a:ext cx="84042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Garamond"/>
                <a:ea typeface="黑体"/>
              </a:rPr>
              <a:t>一、风湿热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0276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二、过敏性紫癜</a:t>
            </a:r>
            <a:r>
              <a:rPr b="1" i="1" lang="zh-CN" sz="33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anaphylactoid purpura</a:t>
            </a:r>
            <a:r>
              <a:rPr b="1" i="1" lang="zh-CN" sz="33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98400" y="2174400"/>
            <a:ext cx="8183520" cy="4056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全身小血管炎为主要病变的系统性血管炎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血小板不减少性紫癜为特点，常伴关节肿痛、腹痛、便血和血尿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见于学龄期儿童，男孩多于女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季均可发病，但冬、春季多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4280" y="1110960"/>
            <a:ext cx="840132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病因及病理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8680" y="2108160"/>
            <a:ext cx="7704360" cy="3247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病因尚不清楚，目前认为与某种致敏因素引起的自身免疫反应有关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病机制可能是以病原体、药物、食物、花粉、虫咬、疫苗注射等作为致敏因素，机体对这些因素产生了不恰当的免疫反应，形成免疫复合物沉淀于小血管，导致的系统性血管炎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09440" y="47520"/>
            <a:ext cx="84027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Arial"/>
                <a:ea typeface="黑体"/>
              </a:rPr>
              <a:t>二、过敏性紫癜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851040" y="2106720"/>
            <a:ext cx="32972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4280" y="1110960"/>
            <a:ext cx="840132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1400" y="2827440"/>
            <a:ext cx="7704000" cy="4032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95360" indent="-49536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为首发症状，特征是反复出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常见于下肢伸侧面和臀部，对称分布，分批出现，重者累及上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紫癜大小不等，高出皮肤，压不褪色，初起为紫红色斑丘疹，此后颜色加深呈暗紫红色，最终呈棕褐色而消退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少数重症患儿紫癜可大片融合形成大疱伴出血性坏死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09440" y="47520"/>
            <a:ext cx="84027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Arial"/>
                <a:ea typeface="华文中宋"/>
              </a:rPr>
              <a:t>二、过敏性紫癜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51040" y="210672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</a:t>
            </a:r>
            <a:r>
              <a:rPr b="1" lang="zh-CN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皮肤紫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17520" y="1049400"/>
            <a:ext cx="8231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2070000" y="2430360"/>
            <a:ext cx="469800" cy="395280"/>
            <a:chOff x="2070000" y="2430360"/>
            <a:chExt cx="469800" cy="395280"/>
          </a:xfrm>
        </p:grpSpPr>
        <p:sp>
          <p:nvSpPr>
            <p:cNvPr id="51" name="AutoShape 4"/>
            <p:cNvSpPr/>
            <p:nvPr/>
          </p:nvSpPr>
          <p:spPr>
            <a:xfrm>
              <a:off x="2073600" y="24368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AutoShape 5"/>
            <p:cNvSpPr/>
            <p:nvPr/>
          </p:nvSpPr>
          <p:spPr>
            <a:xfrm>
              <a:off x="2070000" y="24303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6"/>
            <p:cNvSpPr/>
            <p:nvPr/>
          </p:nvSpPr>
          <p:spPr>
            <a:xfrm>
              <a:off x="2097000" y="24537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Text Box 7"/>
          <p:cNvSpPr/>
          <p:nvPr/>
        </p:nvSpPr>
        <p:spPr>
          <a:xfrm>
            <a:off x="2003400" y="2432160"/>
            <a:ext cx="576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2070000" y="28875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146320" y="2887560"/>
            <a:ext cx="35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10"/>
          <p:cNvGrpSpPr/>
          <p:nvPr/>
        </p:nvGrpSpPr>
        <p:grpSpPr>
          <a:xfrm>
            <a:off x="2070000" y="3344760"/>
            <a:ext cx="469800" cy="395280"/>
            <a:chOff x="2070000" y="3344760"/>
            <a:chExt cx="469800" cy="395280"/>
          </a:xfrm>
        </p:grpSpPr>
        <p:sp>
          <p:nvSpPr>
            <p:cNvPr id="58" name="AutoShape 11"/>
            <p:cNvSpPr/>
            <p:nvPr/>
          </p:nvSpPr>
          <p:spPr>
            <a:xfrm>
              <a:off x="2073600" y="33512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12"/>
            <p:cNvSpPr/>
            <p:nvPr/>
          </p:nvSpPr>
          <p:spPr>
            <a:xfrm>
              <a:off x="2070000" y="33447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13"/>
            <p:cNvSpPr/>
            <p:nvPr/>
          </p:nvSpPr>
          <p:spPr>
            <a:xfrm>
              <a:off x="2097000" y="33681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14"/>
          <p:cNvSpPr/>
          <p:nvPr/>
        </p:nvSpPr>
        <p:spPr>
          <a:xfrm>
            <a:off x="2146320" y="3344760"/>
            <a:ext cx="3524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31"/>
          <p:cNvSpPr/>
          <p:nvPr/>
        </p:nvSpPr>
        <p:spPr>
          <a:xfrm>
            <a:off x="2529000" y="3726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2"/>
          <p:cNvSpPr/>
          <p:nvPr/>
        </p:nvSpPr>
        <p:spPr>
          <a:xfrm>
            <a:off x="2529000" y="3267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33"/>
          <p:cNvSpPr/>
          <p:nvPr/>
        </p:nvSpPr>
        <p:spPr>
          <a:xfrm>
            <a:off x="2529000" y="28098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013200" y="2311560"/>
            <a:ext cx="453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rmAutofit/>
          </a:bodyPr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风湿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过敏性紫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幼年特发性关节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皮肤黏膜淋巴结综合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5"/>
          <p:cNvSpPr/>
          <p:nvPr/>
        </p:nvSpPr>
        <p:spPr>
          <a:xfrm>
            <a:off x="2070000" y="38019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1995480" y="4000680"/>
            <a:ext cx="487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2147400" y="376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506680" y="412416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109440" y="47520"/>
            <a:ext cx="84027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Arial"/>
                <a:ea typeface="华文中宋"/>
              </a:rPr>
              <a:t>二、过敏性紫癜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1571760" y="13161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皮肤紫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5892120" y="13161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紫癜融合形成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7" descr="Img242211165"/>
          <p:cNvPicPr/>
          <p:nvPr/>
        </p:nvPicPr>
        <p:blipFill>
          <a:blip r:embed="rId1"/>
          <a:stretch/>
        </p:blipFill>
        <p:spPr>
          <a:xfrm>
            <a:off x="563400" y="2035080"/>
            <a:ext cx="3810240" cy="2502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图片123_副本"/>
          <p:cNvPicPr/>
          <p:nvPr/>
        </p:nvPicPr>
        <p:blipFill>
          <a:blip r:embed="rId2"/>
          <a:stretch/>
        </p:blipFill>
        <p:spPr>
          <a:xfrm>
            <a:off x="5172120" y="2035080"/>
            <a:ext cx="292896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6680" y="958320"/>
            <a:ext cx="840276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06320" y="23241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消化道症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病例出现消化道症状。常见脐周或下腹部腹痛，伴恶心、呕吐，部分患儿有腹泻或便血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关节症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病例出现关节肿痛。多累及膝、踝、肘、腕等大关节，单发或多发，呈游走性，腔内可有积液。在数日内消失而不遗留关节畸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09440" y="47520"/>
            <a:ext cx="84027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Arial"/>
                <a:ea typeface="黑体"/>
              </a:rPr>
              <a:t>二、过敏性紫癜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6680" y="958320"/>
            <a:ext cx="840276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74320" y="225108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肾症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几乎所有病例在病理上均可累及肾，但临床表现为肾损害者仅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是儿科最常见的继发性肾小球疾病。虽然有些病例肾损害持续数月至数年，但大多数能完全恢复。少数发展为慢性肾炎，死于慢性肾衰竭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其他症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枢神经系统病变是本病潜在威胁之一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09440" y="47520"/>
            <a:ext cx="84027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Arial"/>
                <a:ea typeface="黑体"/>
              </a:rPr>
              <a:t>二、过敏性紫癜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4280" y="1338120"/>
            <a:ext cx="840132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辅助检查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98680" y="2179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室检查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血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尿常规检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大便隐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血清学检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影像学检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09440" y="47520"/>
            <a:ext cx="84027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Arial"/>
                <a:ea typeface="黑体"/>
              </a:rPr>
              <a:t>二、过敏性紫癜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4280" y="1338120"/>
            <a:ext cx="840132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治疗要点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51040" y="2467080"/>
            <a:ext cx="8183520" cy="4124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般治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糖皮质激素和免疫抑制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凝治疗：应用阻止血小板凝集和血栓形成的药物，以紫癜性肾炎为主要病变时，可选用肝素治疗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症处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09440" y="47520"/>
            <a:ext cx="84027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Arial"/>
                <a:ea typeface="黑体"/>
              </a:rPr>
              <a:t>二、过敏性紫癜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6680" y="1263240"/>
            <a:ext cx="840276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护理诊断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0920" y="2827440"/>
            <a:ext cx="818352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皮肤完整性受损  与血管炎有关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疼痛  与关节肿痛、肠道变态反应性炎症有关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潜在并发症：消化道出血、紫癜性肾炎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09440" y="47520"/>
            <a:ext cx="84027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Arial"/>
                <a:ea typeface="黑体"/>
              </a:rPr>
              <a:t>二、过敏性紫癜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9040" y="1171440"/>
            <a:ext cx="840096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护理措施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4680" y="2324160"/>
            <a:ext cx="799308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34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皮肤护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34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观察皮疹的分布、形态、颜色、数量，是否反复，每日详细记录皮疹变化情况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34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衣着、皮肤清洁、干燥，防擦伤和抓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34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避免接触过敏原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1349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09440" y="47520"/>
            <a:ext cx="84027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Arial"/>
                <a:ea typeface="黑体"/>
              </a:rPr>
              <a:t>二、过敏性紫癜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4280" y="1110960"/>
            <a:ext cx="840132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护理措施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06320" y="1819440"/>
            <a:ext cx="8282160" cy="4852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95360" indent="-495360">
              <a:lnSpc>
                <a:spcPct val="14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对症护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4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观察患儿关节疼痛及肿胀程度，协助患肢采取不同的功能位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4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儿腹痛时应卧床休息，禁止腹部热敷，做好日常生活护理。一般腹型紫癜患儿应禁食异体蛋白，并给予无渣流食，严重者应禁食水，给予静脉高营养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14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按医嘱使用肾上腺皮质激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09440" y="47520"/>
            <a:ext cx="84027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Arial"/>
                <a:ea typeface="黑体"/>
              </a:rPr>
              <a:t>二、过敏性紫癜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4280" y="1110960"/>
            <a:ext cx="840132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护理措施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0320" y="1819440"/>
            <a:ext cx="8497800" cy="4852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5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宋体"/>
              </a:rPr>
              <a:t>监测病情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观察有无腹痛、便血等情况，同时注意腹部体征除外外科急腹症，发现异常及时报告和处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观察尿量、尿色，定时做尿常规检查，若有血尿和蛋白尿，提示紫癜性肾炎，按肾炎护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09440" y="47520"/>
            <a:ext cx="84027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Arial"/>
                <a:ea typeface="黑体"/>
              </a:rPr>
              <a:t>二、过敏性紫癜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6680" y="1035000"/>
            <a:ext cx="840276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护理措施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1760" y="1963800"/>
            <a:ext cx="9145440" cy="4782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宋体"/>
              </a:rPr>
              <a:t>健康教育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本病以春、秋季好发，向小儿及家长宣传预防感染的重要性，避免去人群聚集的场所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本病可反复发作或并发肾损害，给患儿和家长带来不安和痛苦，应做好解释，帮助其树立战胜疾病的信心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应做好出院指导，合理调配饮食；指导其尽量避免接触各种可能的过敏原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并定期到医院复查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09440" y="47520"/>
            <a:ext cx="84027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Arial"/>
                <a:ea typeface="黑体"/>
              </a:rPr>
              <a:t>二、过敏性紫癜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03040" y="1819080"/>
            <a:ext cx="8801280" cy="4940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识记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风湿热、过敏性紫癜、幼年特发性关节炎和皮肤黏膜淋巴结综合征病因及发病机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过敏性紫癜和皮肤黏膜淋巴结综合征的辅助检查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理解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风湿热、过敏性紫癜、幼年特发性关节炎和皮肤黏膜淋巴结综合征的治疗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风湿热、过敏性紫癜和皮肤黏膜淋巴结综合征的临床表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490920" y="958680"/>
            <a:ext cx="297648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6680" y="1338120"/>
            <a:ext cx="840276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概念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2680" y="2466720"/>
            <a:ext cx="8401320" cy="477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种以慢性关节滑膜炎为特征的自身免疫性疾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现为长期不规则发热及关节肿痛、皮疹、肝脾及淋巴结肿大，少数可伴虹膜睫状体炎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见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以下的儿童，男孩多于女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龄越小，全身症状越重，年长儿以关节症状为主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6360" y="47520"/>
            <a:ext cx="84042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Garamond"/>
                <a:ea typeface="黑体"/>
              </a:rPr>
              <a:t>三、幼年特发性关节炎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4280" y="1263240"/>
            <a:ext cx="840132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病因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6760" y="2461680"/>
            <a:ext cx="8977320" cy="477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病因不明，可能与下列因素有关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因素：本病有关，但不能证实是引起本病的直接诱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免疫因素：有证据证实本病为自身免疫性疾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遗传因素：本病有单卵双胎及同胞兄妹共患的病历，有资料证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I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有遗传学背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他：如精神因素、外伤、吸烟、气候等环境改变均可成为触发因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6360" y="47520"/>
            <a:ext cx="84042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Garamond"/>
                <a:ea typeface="黑体"/>
              </a:rPr>
              <a:t>三、幼年特发性关节炎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4320" y="1171440"/>
            <a:ext cx="840276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4680" y="1890360"/>
            <a:ext cx="8858160" cy="4390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35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临床表现各型极为不同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5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</a:rPr>
              <a:t>全身型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：以全身症状起病，发热和皮疹为典型症状。关节症状主要是关节痛或关节炎。肝、脾、淋巴结常有不同程度肿大。偶见胸膜炎、心包炎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5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</a:rPr>
              <a:t>少关节型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：发病最初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个月有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个关节受累。多为非对称性，以膝、踝、肘等大关节为主，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伴慢性虹膜睫状体炎而致视力下降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5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6360" y="47520"/>
            <a:ext cx="84042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Garamond"/>
                <a:ea typeface="黑体"/>
              </a:rPr>
              <a:t>三、幼年特发性关节炎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6680" y="1187280"/>
            <a:ext cx="840276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891800"/>
            <a:ext cx="9204480" cy="4751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35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多关节型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病最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以上关节受累，多为对称性。先累及大关节。随病情进展可累及小关节。晨僵是本型的特点。反复发作者关节发生强直变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5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银屑病性关节炎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单个或多个关节炎合并银屑病，以累及手足小关节为主，也可累及骶髂关节及四肢大关节，受累的关节不对称。常伴有指（趾）甲病变。此型儿童时期罕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36360" y="47520"/>
            <a:ext cx="84042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Garamond"/>
                <a:ea typeface="黑体"/>
              </a:rPr>
              <a:t>三、幼年特发性关节炎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6680" y="1187280"/>
            <a:ext cx="840276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03040" y="2035080"/>
            <a:ext cx="8785440" cy="4392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35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</a:rPr>
              <a:t>与附着点炎症相关的关节炎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岁以上男孩儿多见，多有家族史。首发症状为四肢关节炎，以下肢大关节如髋、膝、踝关节多见，表现为肿、痛和活动受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5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</a:rPr>
              <a:t>未定类的幼年特发性关节炎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：不符合上述任何一项或符合上述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项以上类别的关节炎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6360" y="47520"/>
            <a:ext cx="84042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Garamond"/>
                <a:ea typeface="黑体"/>
              </a:rPr>
              <a:t>三、幼年特发性关节炎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6680" y="1187280"/>
            <a:ext cx="840276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辅助检查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49000" y="2179440"/>
            <a:ext cx="8785080" cy="4392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35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液检查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5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免疫学检查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5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影像学检查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36360" y="47520"/>
            <a:ext cx="84042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Garamond"/>
                <a:ea typeface="黑体"/>
              </a:rPr>
              <a:t>三、幼年特发性关节炎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2680" y="102672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治疗要点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1891800"/>
            <a:ext cx="9131400" cy="4775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一般治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注意增加营养，除急性发热外，不主张过多地卧床休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理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采用医疗体育、理疗等措施可减轻关节强直和软组织挛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药物疗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应用非甾体类抗炎药物、水杨酸制剂、甲氨蝶呤、羟氯喹、肾上腺皮质激素、免疫抑制剂等进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I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治疗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眼科治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定期眼科检查及早发现虹膜睫状体炎。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36360" y="47520"/>
            <a:ext cx="84042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Garamond"/>
                <a:ea typeface="黑体"/>
              </a:rPr>
              <a:t>三、幼年特发性关节炎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21960" y="1338120"/>
            <a:ext cx="773748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护理诊断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33480" y="2463840"/>
            <a:ext cx="8400960" cy="4775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体温过高  与非化脓性炎症有关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疼痛  与关节炎症和肿胀有关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躯体活动障碍  与关节疼痛、畸形有关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焦虑  与关节强直畸形有关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潜在并发症：药物副作用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0"/>
            <a:ext cx="84042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Garamond"/>
                <a:ea typeface="黑体"/>
              </a:rPr>
              <a:t>三、幼年特发性关节炎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5600" y="1026720"/>
            <a:ext cx="840420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护理措施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03040" y="2179800"/>
            <a:ext cx="8569440" cy="4776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35000"/>
              </a:lnSpc>
              <a:spcBef>
                <a:spcPts val="104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</a:rPr>
              <a:t>发热的护理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：监测体温变化，注意热型。观察有无皮疹、眼部受损，有无脱水体征。做好基础护理，同时要保证患儿摄入充足水分及热量。使用抗炎药物进行病因治疗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5000"/>
              </a:lnSpc>
              <a:spcBef>
                <a:spcPts val="104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6360" y="47520"/>
            <a:ext cx="84042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Garamond"/>
                <a:ea typeface="黑体"/>
              </a:rPr>
              <a:t>三、幼年特发性关节炎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5600" y="1026720"/>
            <a:ext cx="840420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护理措施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960" y="1747440"/>
            <a:ext cx="9001080" cy="5064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35000"/>
              </a:lnSpc>
              <a:spcBef>
                <a:spcPts val="104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</a:rPr>
              <a:t>关节炎的护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5000"/>
              </a:lnSpc>
              <a:spcBef>
                <a:spcPts val="104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）急性期应卧床休息，注意观察关节症状。可用夹板、沙袋等固定患肢或用支被架保护患肢。经常变换体位，适当作关节活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5000"/>
              </a:lnSpc>
              <a:spcBef>
                <a:spcPts val="104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）急性期过后尽早开始关节的康复治疗，设计出允许范围内的游戏方法。鼓励患儿在日常生活中尽量独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5000"/>
              </a:lnSpc>
              <a:spcBef>
                <a:spcPts val="104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）对关节畸形的患儿，注意防止外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6360" y="47520"/>
            <a:ext cx="84042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Garamond"/>
                <a:ea typeface="黑体"/>
              </a:rPr>
              <a:t>三、幼年特发性关节炎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98400" y="210024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运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制订过敏性紫癜和皮肤黏膜淋巴结综合征患儿的护理计划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够解答患儿和家长提出的有关风湿热、幼年特发性关节炎、过敏性紫癜和皮肤黏淋巴结综合征的健康问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3269880" y="1111320"/>
            <a:ext cx="273204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5600" y="1026720"/>
            <a:ext cx="840420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护理措施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960" y="1747440"/>
            <a:ext cx="9001080" cy="5064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35000"/>
              </a:lnSpc>
              <a:spcBef>
                <a:spcPts val="104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</a:rPr>
              <a:t>用药护理：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非甾体类抗炎药物常见副作用是胃肠反应，使用免疫抑制剂应注意观察药物副作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5000"/>
              </a:lnSpc>
              <a:spcBef>
                <a:spcPts val="104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</a:rPr>
              <a:t>心理护理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：多与患儿及家长沟通，给予精神安慰。做好出院后的指导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0"/>
            <a:ext cx="84042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Garamond"/>
                <a:ea typeface="黑体"/>
              </a:rPr>
              <a:t>三、幼年特发性关节炎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8680" y="811080"/>
            <a:ext cx="840276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护理措施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35040" y="1963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35000"/>
              </a:lnSpc>
              <a:spcBef>
                <a:spcPts val="104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健康教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5000"/>
              </a:lnSpc>
              <a:spcBef>
                <a:spcPts val="104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指导父母不要过度保护患儿，多尝试一些新的运动，多让患儿接触社会，尽量参加正常的活动和学习，以促进其身心健康的发展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5000"/>
              </a:lnSpc>
              <a:spcBef>
                <a:spcPts val="104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对患儿及家长进行该病的知识教育。宣传引发本病的诱因。介绍治疗进展和有关康复信息，以提高他们战胜疾病的信息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33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三、幼年特发性关节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080" y="47160"/>
            <a:ext cx="902196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</a:rPr>
              <a:t>四、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皮肤黏膜淋巴结综合征</a:t>
            </a:r>
            <a:br>
              <a:rPr sz="3200"/>
            </a:b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cocutaneous lymphnode syndrome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CLS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一种全身中、小血管炎为主要病变的急性发热出疹性疾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上以发热、皮肤黏膜损害、淋巴结肿大为特点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病以婴幼儿多见，男孩多于女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年四季均有发病，以春秋两季居多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2680" y="955440"/>
            <a:ext cx="840276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病因及病理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0320" y="1747800"/>
            <a:ext cx="8664480" cy="5253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病因不明，可能与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EB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病毒、立克次体、丙酸杆菌、链球菌、反转录病毒、支原体等多种病原体感染有关，但均未证实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发病机制尚不清楚，目前认为是免疫介导的全身性血管炎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基本病理变化为全身血管炎性病变，冠状动脉病变最为严重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09440" y="47520"/>
            <a:ext cx="84027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Arial"/>
                <a:ea typeface="黑体"/>
              </a:rPr>
              <a:t>四、皮肤黏膜淋巴结综合征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02680" y="955440"/>
            <a:ext cx="840276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1720" y="2179440"/>
            <a:ext cx="9072360" cy="5397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4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主要表现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华文中宋"/>
              </a:rPr>
              <a:t>发热：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最早出现症状，体温高达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39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40℃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，呈稽留热或弛张热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华文中宋"/>
              </a:rPr>
              <a:t>皮肤表现：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呈向心性、多形性，为斑丘疹、多形性皮斑和猩红热样皮疹，无疱疹及结痂，躯干部多见；肛周皮肤发红、脱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9440" y="47520"/>
            <a:ext cx="84027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Arial"/>
                <a:ea typeface="黑体"/>
              </a:rPr>
              <a:t>四、皮肤黏膜淋巴结综合征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02680" y="955440"/>
            <a:ext cx="840276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1760" y="1603080"/>
            <a:ext cx="9072720" cy="5397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95360" indent="-495360">
              <a:lnSpc>
                <a:spcPct val="14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</a:rPr>
              <a:t>手足症状：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急性期手足皮肤呈广泛性硬性水肿和掌趾红斑，恢复期指、趾端膜状脱皮，重者指、趾甲亦可脱落。此为本病的典型临床特点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4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</a:rPr>
              <a:t>黏膜表现：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双眼球结膜充血，无脓性分泌物；口唇潮红、皲裂或出血，舌乳头突起、充血呈草莓舌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4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</a:rPr>
              <a:t>颈淋巴结肿大：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常为单侧，少数累及双侧，呈非化脓性，坚硬有触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09440" y="47520"/>
            <a:ext cx="84027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Arial"/>
                <a:ea typeface="黑体"/>
              </a:rPr>
              <a:t>四、皮肤黏膜淋巴结综合征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4280" y="1110960"/>
            <a:ext cx="840132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45600" y="2036520"/>
            <a:ext cx="8642520" cy="4390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34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心脏表现：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心血管累及是川崎病最严重的表现。于病后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周出现心肌炎、心内膜炎和心包炎；冠状动脉瘤常在疾病的第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周发生也可于疾病恢复期，心肌梗死和巨大冠状动脉瘤破裂可导致心源性休克甚至猝死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34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其他：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可有无菌性脑膜炎、间质性肺炎、消化系统症状、关节痛和关节炎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109440" y="47520"/>
            <a:ext cx="84027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Arial"/>
                <a:ea typeface="黑体"/>
              </a:rPr>
              <a:t>四、皮肤黏膜淋巴结综合征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4280" y="1110960"/>
            <a:ext cx="840132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辅助检查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07760" y="2036520"/>
            <a:ext cx="8280360" cy="4390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34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检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34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免疫学检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34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电图、超声心动图检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34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胸部平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34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冠状动脉检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09440" y="47520"/>
            <a:ext cx="84027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Arial"/>
                <a:ea typeface="黑体"/>
              </a:rPr>
              <a:t>四、皮肤黏膜淋巴结综合征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6680" y="1110960"/>
            <a:ext cx="840276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治疗要点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74320" y="1819440"/>
            <a:ext cx="8929800" cy="5419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控制炎症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司匹林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：首选药物 。如有冠状动脉病变时，根据血小板调整剂量、疗程至冠状动脉病变恢复正常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静脉注射丙种球蛋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I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：发病早期应用，可降低急性期冠状动脉病变的发生率，对已形成冠状动脉瘤者可使早期退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糖皮质激素：因加重血液高凝状态，不宜单独使用。静脉注射丙种球蛋白无效者考虑使用，可与阿司匹林和双嘧达莫合并使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09440" y="47520"/>
            <a:ext cx="84027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Arial"/>
                <a:ea typeface="黑体"/>
              </a:rPr>
              <a:t>四、皮肤黏膜淋巴结综合征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6680" y="1110960"/>
            <a:ext cx="840276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治疗要点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04280" y="2466720"/>
            <a:ext cx="8929800" cy="5419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抗血小板聚集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除阿司匹林外可加用双嘧达莫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其他治疗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症支持治疗，心肌梗死时及时溶栓治疗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109440" y="47520"/>
            <a:ext cx="84027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Arial"/>
                <a:ea typeface="黑体"/>
              </a:rPr>
              <a:t>四、皮肤黏膜淋巴结综合征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00" y="47520"/>
            <a:ext cx="8404200" cy="922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、风湿热</a:t>
            </a:r>
            <a:r>
              <a:rPr b="1" i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i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rheumatic fever</a:t>
            </a:r>
            <a:r>
              <a:rPr b="1" i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35040" y="246708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风湿热是一种具有反复发作倾向的全身结缔组织病，其发病与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组乙型溶血性链球菌感染密切相关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年龄以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岁多见。以冬春季节、寒冷、潮湿地区发病率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临床表现为发热，多伴有关节炎、心脏炎，较少出现环形红斑和皮下结节或舞蹈病，反复发作可形成慢性风湿性心瓣膜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45960" y="1243080"/>
            <a:ext cx="84027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ctr">
            <a:norm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概念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22320" y="1263240"/>
            <a:ext cx="766296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华文中宋"/>
                <a:ea typeface="华文中宋"/>
              </a:rPr>
              <a:t>护理诊断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33480" y="2460240"/>
            <a:ext cx="8400960" cy="4778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体温过高  与感染、免疫反应等因素有关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皮肤完整性受损  与小血管炎有关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口腔黏膜改变  与小血管炎有关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潜在并发症：心脏受损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09440" y="47520"/>
            <a:ext cx="84027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Arial"/>
                <a:ea typeface="黑体"/>
              </a:rPr>
              <a:t>四、皮肤黏膜淋巴结综合征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5040" y="1026720"/>
            <a:ext cx="804240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护理措施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63800"/>
            <a:ext cx="8642160" cy="4535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降低体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急性期绝对卧床休息，病室温湿度适宜。监测体温，观察热型和伴随症状，采取必要的治疗护理措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给予清淡易消化、营养丰富的流质或半流质饮食。鼓励患儿多饮水，必要时静脉补液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按医嘱用药，观察药物的副作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09440" y="47520"/>
            <a:ext cx="84027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Arial"/>
                <a:ea typeface="黑体"/>
              </a:rPr>
              <a:t>四、皮肤黏膜淋巴结综合征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4320" y="102672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护理措施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2034720"/>
            <a:ext cx="9072720" cy="453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</a:rPr>
              <a:t>皮肤护理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：评估皮疹情况，保持皮肤清洁，剪短指甲，以免抓伤和擦伤；对半脱的痂皮用干净剪刀剪除，切忌强行撕脱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</a:rPr>
              <a:t>黏膜护理：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评估口腔黏膜病损情况及进食能力，保持口腔清洁；口唇皲裂用消毒石蜡油涂抹，保持眼睛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99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109440" y="47520"/>
            <a:ext cx="84027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Arial"/>
                <a:ea typeface="黑体"/>
              </a:rPr>
              <a:t>四、皮肤黏膜淋巴结综合征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9760" y="1110960"/>
            <a:ext cx="840276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护理措施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02680" y="1963800"/>
            <a:ext cx="8401320" cy="4775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</a:rPr>
              <a:t>监测病情：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密切监测患儿有无面色、精神状态、心率、心律、心音、心电图异常等心血管损害的表现，一旦发现给予采取相应的护理措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</a:rPr>
              <a:t>心理护理：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消除家长的负性情绪，给予心理支持。根据患儿年龄进行解释，以取得配合，制定合理的活动与休息，减少各种不良刺激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09440" y="47520"/>
            <a:ext cx="84027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Arial"/>
                <a:ea typeface="黑体"/>
              </a:rPr>
              <a:t>四、皮肤黏膜淋巴结综合征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960" y="1315800"/>
            <a:ext cx="840420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护理措施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360" y="2324160"/>
            <a:ext cx="9047160" cy="4340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5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华文中宋"/>
              </a:rPr>
              <a:t>健康教育：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指导家长坚持服药、观察病情，强调按期来院复查。本病应至少随访半年到一年，对于有冠状动脉病变的患儿要密切随访。对于使用丙种球蛋白的患儿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个月后才可预防接种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109440" y="47520"/>
            <a:ext cx="84027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Arial"/>
                <a:ea typeface="黑体"/>
              </a:rPr>
              <a:t>四、皮肤黏膜淋巴结综合征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5"/>
          <p:cNvSpPr/>
          <p:nvPr/>
        </p:nvSpPr>
        <p:spPr>
          <a:xfrm>
            <a:off x="779400" y="1747800"/>
            <a:ext cx="799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，女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以发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天伴右侧颈部肿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，使用退热药无效，近日出现皮疹为主诉入院。体格检查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39.6℃ P1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意识清楚，头面部及躯干可见多形性红斑样皮疹，右侧颈部淋巴结肿大，表面不红，触之疼痛，双眼球结膜充血，口唇干裂，口腔黏膜充血，舌乳头突起，呈杨梅舌。四肢活动好，手足弥漫性红肿，组织有发硬的感觉。实验室检查：白细胞总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L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性粒细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6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淋巴细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RP70mg/L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mm/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患儿的初步诊断是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估患儿列出主要的护理诊断，制定相应的护理措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443400" y="882720"/>
            <a:ext cx="199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思考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7360" y="1263240"/>
            <a:ext cx="840276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病理过程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2680" y="2323800"/>
            <a:ext cx="8712360" cy="4149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35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急性渗出、增生和硬化三期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5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急性渗出期：主要受累部位为心脏、关节、皮肤等结缔组织变性和水肿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5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增生期：主要存在于心肌和心内膜，是诊断风湿热的病理依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5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硬化期：纤维组织增生和疤痕形成。二尖瓣最常受累，其次为主动脉瓣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6360" y="47520"/>
            <a:ext cx="84042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Garamond"/>
                <a:ea typeface="黑体"/>
              </a:rPr>
              <a:t>一、风湿热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9760" y="1110960"/>
            <a:ext cx="840276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主要表现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74680" y="2179800"/>
            <a:ext cx="8640720" cy="44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一般表现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热，热型不规则，有面色苍白、食欲差、多汗、倦怠、腹痛等症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心脏炎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严重的表现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％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％患儿累及心脏，以心肌炎及心内膜炎多见，亦可发生全心炎。心内膜炎多次复发可导致风湿性心瓣膜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6360" y="47520"/>
            <a:ext cx="84042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Garamond"/>
                <a:ea typeface="黑体"/>
              </a:rPr>
              <a:t>一、风湿热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9760" y="1110960"/>
            <a:ext cx="840276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74320" y="2395440"/>
            <a:ext cx="8713800" cy="44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关节炎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游走性和多发性为特点，常累及大关节，局部出现红、肿、热、痛，以疼痛和功能障碍者为主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舞蹈病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女童多见，表现为突发、不自主、无目的的快速运动，在兴奋或注意力集中时加剧，入睡后消失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皮肤症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皮下小结与环形红斑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6360" y="47520"/>
            <a:ext cx="84042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Garamond"/>
                <a:ea typeface="黑体"/>
              </a:rPr>
              <a:t>一、风湿热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9760" y="1415520"/>
            <a:ext cx="8402760" cy="941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 </a:t>
            </a:r>
            <a:r>
              <a:rPr b="1" i="1" lang="zh-CN" sz="37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辅助检查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74680" y="2755440"/>
            <a:ext cx="8400960" cy="406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室检查：血常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链球菌抗体测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风湿热活动指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电图检查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-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间期持续延长提示风湿活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6360" y="47520"/>
            <a:ext cx="84042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Garamond"/>
                <a:ea typeface="黑体"/>
              </a:rPr>
              <a:t>一、风湿热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6T13:29:25Z</dcterms:modified>
  <cp:revision>114</cp:revision>
  <dc:subject/>
  <dc:title>幻灯片 1</dc:title>
</cp:coreProperties>
</file>